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A26-BF02-4191-A8F9-F8E6B5B1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CE6-CC23-4C38-99B3-C095ADF7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0A7-C8F9-4181-B2B8-D9E29CF7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317-3AC2-4F43-A254-02056FA4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E71-CA57-4E15-8C43-95FA5DF3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54B-9A5E-4351-8BE9-DE2CCAB2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787-FAA4-4B5C-BCB9-3946FEF5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78B-83E7-45B8-A081-3D329251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BA0-6DBE-4F9B-B1FF-BE6F589C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399-F1C6-4E9F-BE6A-92D16543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8A6-1521-40FF-AA5B-4F29CBDC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E2E-97B5-4639-B17B-894B1B9F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38245-39E1-4B1B-B59B-2BDB3535D6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1F406-AE24-4808-ABF5-1B84926FA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744480" y="336600"/>
            <a:ext cx="3200400" cy="1511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44480" y="2379600"/>
            <a:ext cx="3200400" cy="1511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744480" y="4637160"/>
            <a:ext cx="32004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5126040" y="336600"/>
            <a:ext cx="320040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5"/>
          <a:stretch/>
        </p:blipFill>
        <p:spPr>
          <a:xfrm>
            <a:off x="5126040" y="2379600"/>
            <a:ext cx="3200400" cy="151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tretch/>
        </p:blipFill>
        <p:spPr>
          <a:xfrm>
            <a:off x="5126040" y="4637160"/>
            <a:ext cx="3200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93840" y="266760"/>
            <a:ext cx="4178160" cy="1942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93840" y="2457360"/>
            <a:ext cx="4178160" cy="194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393840" y="4665600"/>
            <a:ext cx="417816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4965840" y="266760"/>
            <a:ext cx="4178160" cy="1942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5"/>
          <a:stretch/>
        </p:blipFill>
        <p:spPr>
          <a:xfrm>
            <a:off x="4965840" y="2457360"/>
            <a:ext cx="4178160" cy="194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6"/>
          <a:stretch/>
        </p:blipFill>
        <p:spPr>
          <a:xfrm>
            <a:off x="4965840" y="4665600"/>
            <a:ext cx="4178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406440" y="276120"/>
            <a:ext cx="4165560" cy="193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06440" y="2463840"/>
            <a:ext cx="4165560" cy="193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406440" y="4616280"/>
            <a:ext cx="4165560" cy="193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4572000" y="276120"/>
            <a:ext cx="4165560" cy="193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5"/>
          <a:stretch/>
        </p:blipFill>
        <p:spPr>
          <a:xfrm>
            <a:off x="4572000" y="2463840"/>
            <a:ext cx="4165560" cy="193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6"/>
          <a:stretch/>
        </p:blipFill>
        <p:spPr>
          <a:xfrm>
            <a:off x="4978440" y="4616280"/>
            <a:ext cx="416556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04920" y="331920"/>
            <a:ext cx="4267080" cy="190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04920" y="2476440"/>
            <a:ext cx="426708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304920" y="4694400"/>
            <a:ext cx="426708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4572000" y="331920"/>
            <a:ext cx="4267080" cy="190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4572000" y="2476440"/>
            <a:ext cx="426708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6"/>
          <a:stretch/>
        </p:blipFill>
        <p:spPr>
          <a:xfrm>
            <a:off x="4572000" y="4694400"/>
            <a:ext cx="4267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79440" y="252360"/>
            <a:ext cx="3048120" cy="138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79440" y="2044800"/>
            <a:ext cx="3048120" cy="138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379440" y="3841920"/>
            <a:ext cx="3048120" cy="138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5551560" y="252360"/>
            <a:ext cx="3047760" cy="1384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5551560" y="2044800"/>
            <a:ext cx="3047760" cy="1384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6"/>
          <a:stretch/>
        </p:blipFill>
        <p:spPr>
          <a:xfrm>
            <a:off x="5551560" y="3841920"/>
            <a:ext cx="3047760" cy="1384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7"/>
          <a:stretch/>
        </p:blipFill>
        <p:spPr>
          <a:xfrm>
            <a:off x="379440" y="5473800"/>
            <a:ext cx="3048120" cy="1384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8"/>
          <a:stretch/>
        </p:blipFill>
        <p:spPr>
          <a:xfrm>
            <a:off x="5551560" y="5226120"/>
            <a:ext cx="30477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5:23:06Z</dcterms:created>
  <dc:creator>Silvia Ferreira</dc:creator>
  <dc:description/>
  <dc:language>en-US</dc:language>
  <cp:lastModifiedBy>Eduardo da Silva</cp:lastModifiedBy>
  <dcterms:modified xsi:type="dcterms:W3CDTF">2012-09-19T18:11:43Z</dcterms:modified>
  <cp:revision>1</cp:revision>
  <dc:subject/>
  <dc:title>Slide 1</dc:title>
</cp:coreProperties>
</file>